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B1255-12EB-495F-8541-E2CB7A666F3D}" type="slidenum">
              <a:rPr b="0" lang="es-MX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55D88-A800-4C64-A480-60281CCA0605}" type="slidenum">
              <a:rPr b="0" lang="es-MX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CEDC4-EB7B-43C2-8208-55A4582C391C}" type="slidenum">
              <a:rPr b="0" lang="es-MX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413BC-B462-45E9-876A-83DB91601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7B8C4-D406-48E7-9EBD-E270574BC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01D60-5EBB-4D07-8895-29086250B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7AC76-6352-482C-9C30-4008B5CB0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F1B17-BEF4-4C4F-B54A-E3468C147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7DF9B-97D8-4AA6-B828-DE01AEE71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15491-98C8-4639-AAF2-FAFC123D1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C2D8B-7087-4017-A6A4-74516A541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B99ED-9109-471F-9EAF-3BFC6ADEF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9441F-0033-4429-B700-9C15FEF5A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B46CD-C27D-45C4-BCEB-BFC4465F6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4921D-F8A1-45AF-BD91-03F1C3CB5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FF70C-06AF-4024-BE9F-C38334C9A2F0}" type="slidenum">
              <a:rPr b="0" lang="es-MX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0" y="-28440"/>
            <a:ext cx="9144000" cy="68864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50" name="1 Título"/>
          <p:cNvSpPr/>
          <p:nvPr/>
        </p:nvSpPr>
        <p:spPr>
          <a:xfrm>
            <a:off x="1116000" y="212400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ff"/>
                </a:solidFill>
                <a:latin typeface="Calibri"/>
              </a:rPr>
              <a:t>RESULTADOS DE EVALUACIÓN DOCENTE 2010 - CMV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2 Subtítulo"/>
          <p:cNvSpPr/>
          <p:nvPr/>
        </p:nvSpPr>
        <p:spPr>
          <a:xfrm>
            <a:off x="1116000" y="3863880"/>
            <a:ext cx="6400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00"/>
                </a:solidFill>
                <a:latin typeface="Calibri"/>
              </a:rPr>
              <a:t>Prof. Sebastián Saavedra V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0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6 CuadroTexto"/>
          <p:cNvSpPr/>
          <p:nvPr/>
        </p:nvSpPr>
        <p:spPr>
          <a:xfrm>
            <a:off x="2411280" y="5877000"/>
            <a:ext cx="62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00"/>
                </a:solidFill>
                <a:latin typeface="Calibri"/>
              </a:rPr>
              <a:t>Viña del Mar, Hotel Marina del Rey, 12  de mayo de 201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3" name="Group 12"/>
          <p:cNvGrpSpPr/>
          <p:nvPr/>
        </p:nvGrpSpPr>
        <p:grpSpPr>
          <a:xfrm>
            <a:off x="3854520" y="506520"/>
            <a:ext cx="1713960" cy="1453320"/>
            <a:chOff x="3854520" y="506520"/>
            <a:chExt cx="1713960" cy="1453320"/>
          </a:xfrm>
        </p:grpSpPr>
        <p:pic>
          <p:nvPicPr>
            <p:cNvPr id="54" name="Picture 13" descr="log-cmvm"/>
            <p:cNvPicPr/>
            <p:nvPr/>
          </p:nvPicPr>
          <p:blipFill>
            <a:blip r:embed="rId2"/>
            <a:stretch/>
          </p:blipFill>
          <p:spPr>
            <a:xfrm>
              <a:off x="3854520" y="506520"/>
              <a:ext cx="1713960" cy="96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Picture 14" descr="Copia de logo02"/>
            <p:cNvPicPr/>
            <p:nvPr/>
          </p:nvPicPr>
          <p:blipFill>
            <a:blip r:embed="rId3"/>
            <a:stretch/>
          </p:blipFill>
          <p:spPr>
            <a:xfrm>
              <a:off x="3854520" y="1547280"/>
              <a:ext cx="1713960" cy="4125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2" descr=""/>
          <p:cNvPicPr/>
          <p:nvPr/>
        </p:nvPicPr>
        <p:blipFill>
          <a:blip r:embed="rId1"/>
          <a:stretch/>
        </p:blipFill>
        <p:spPr>
          <a:xfrm>
            <a:off x="-27000" y="-28440"/>
            <a:ext cx="9144000" cy="6886440"/>
          </a:xfrm>
          <a:prstGeom prst="rect">
            <a:avLst/>
          </a:prstGeom>
          <a:ln w="0">
            <a:noFill/>
          </a:ln>
        </p:spPr>
      </p:pic>
      <p:sp>
        <p:nvSpPr>
          <p:cNvPr id="106" name="1 Título"/>
          <p:cNvSpPr/>
          <p:nvPr/>
        </p:nvSpPr>
        <p:spPr>
          <a:xfrm>
            <a:off x="598320" y="189000"/>
            <a:ext cx="8229600" cy="1563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ff"/>
                </a:solidFill>
                <a:latin typeface="Calibri"/>
              </a:rPr>
              <a:t>TRES GRANDES IDEA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2 Marcador de contenido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Calibri"/>
              </a:rPr>
              <a:t>Preocupa que se entregue una falsa imagen del profesor competente o destacado, ya que en promedio presentamos resultados bajo el desempeño mínimo esperado (Competente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Calibri"/>
              </a:rPr>
              <a:t>Se requieren acciones remediales, no sólo en las inducciones en el proceso de evaluación docente sino también en las capacitaciones de cada subsector (desde junio, anexo a capacitaciones de Singapur, para los profesores de Primer Ciclo, se propone realizar talleres de apoyo a la acción docente en aula, sobre cómo mejorar la </a:t>
            </a:r>
            <a:r>
              <a:rPr b="1" lang="es-MX" sz="2400" spc="-1" strike="noStrike">
                <a:solidFill>
                  <a:srgbClr val="ffff00"/>
                </a:solidFill>
                <a:latin typeface="Calibri"/>
              </a:rPr>
              <a:t>calidad de las evaluaciones</a:t>
            </a:r>
            <a:r>
              <a:rPr b="0" lang="es-MX" sz="2400" spc="-1" strike="noStrike">
                <a:solidFill>
                  <a:srgbClr val="ffff00"/>
                </a:solidFill>
                <a:latin typeface="Calibri"/>
              </a:rPr>
              <a:t>, su posterior </a:t>
            </a:r>
            <a:r>
              <a:rPr b="1" lang="es-MX" sz="2400" spc="-1" strike="noStrike">
                <a:solidFill>
                  <a:srgbClr val="ffff00"/>
                </a:solidFill>
                <a:latin typeface="Calibri"/>
              </a:rPr>
              <a:t>reflexión</a:t>
            </a:r>
            <a:r>
              <a:rPr b="0" lang="es-MX" sz="2400" spc="-1" strike="noStrike">
                <a:solidFill>
                  <a:srgbClr val="ffff00"/>
                </a:solidFill>
                <a:latin typeface="Calibri"/>
              </a:rPr>
              <a:t> y la </a:t>
            </a:r>
            <a:r>
              <a:rPr b="1" lang="es-MX" sz="2400" spc="-1" strike="noStrike">
                <a:solidFill>
                  <a:srgbClr val="ffff00"/>
                </a:solidFill>
                <a:latin typeface="Calibri"/>
              </a:rPr>
              <a:t>interacción pedagógica entre docente – alumno</a:t>
            </a:r>
            <a:r>
              <a:rPr b="0" lang="es-MX" sz="2400" spc="-1" strike="noStrike">
                <a:solidFill>
                  <a:srgbClr val="ffff00"/>
                </a:solidFill>
                <a:latin typeface="Calibri"/>
              </a:rPr>
              <a:t>, desde una perspectiva constructivista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0" y="-28440"/>
            <a:ext cx="9144000" cy="68864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8" name="10 Gráfico" descr=""/>
          <p:cNvPicPr/>
          <p:nvPr/>
        </p:nvPicPr>
        <p:blipFill>
          <a:blip r:embed="rId2"/>
          <a:stretch/>
        </p:blipFill>
        <p:spPr>
          <a:xfrm>
            <a:off x="237960" y="249120"/>
            <a:ext cx="8740800" cy="643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-27000" y="-28440"/>
            <a:ext cx="9144000" cy="6886440"/>
          </a:xfrm>
          <a:prstGeom prst="rect">
            <a:avLst/>
          </a:prstGeom>
          <a:ln w="0">
            <a:noFill/>
          </a:ln>
        </p:spPr>
      </p:pic>
      <p:sp>
        <p:nvSpPr>
          <p:cNvPr id="62" name="1 Título"/>
          <p:cNvSpPr/>
          <p:nvPr/>
        </p:nvSpPr>
        <p:spPr>
          <a:xfrm>
            <a:off x="598320" y="189000"/>
            <a:ext cx="8229600" cy="1563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ff"/>
                </a:solidFill>
                <a:latin typeface="Calibri"/>
              </a:rPr>
              <a:t>Ámbitos de la evaluación docente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2 Marcador de contenido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Calibri"/>
              </a:rPr>
              <a:t>A. Organización de los elementos de la unida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Calibri"/>
              </a:rPr>
              <a:t>B. Análisis de las actividades de las clas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Calibri"/>
              </a:rPr>
              <a:t>C. Calidad de la evaluación de la unida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Calibri"/>
              </a:rPr>
              <a:t>D. Reflexión a partir de los resultados de la evaluació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Calibri"/>
              </a:rPr>
              <a:t>E. Reflexión pedagógic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Calibri"/>
              </a:rPr>
              <a:t>F. Ambiente de la clase para el aprendizaj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Calibri"/>
              </a:rPr>
              <a:t>G. Estructura de la clas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Calibri"/>
              </a:rPr>
              <a:t>H. Interacción pedagógic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-27000" y="-28440"/>
            <a:ext cx="9144000" cy="6886440"/>
          </a:xfrm>
          <a:prstGeom prst="rect">
            <a:avLst/>
          </a:prstGeom>
          <a:ln w="0">
            <a:noFill/>
          </a:ln>
        </p:spPr>
      </p:pic>
      <p:sp>
        <p:nvSpPr>
          <p:cNvPr id="67" name="1 Título"/>
          <p:cNvSpPr/>
          <p:nvPr/>
        </p:nvSpPr>
        <p:spPr>
          <a:xfrm>
            <a:off x="598320" y="189000"/>
            <a:ext cx="8229600" cy="115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ff"/>
                </a:solidFill>
                <a:latin typeface="Calibri"/>
              </a:rPr>
              <a:t>Resultados promedios 2010 en Evaluación Docent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2 Marcador de contenido"/>
          <p:cNvSpPr/>
          <p:nvPr/>
        </p:nvSpPr>
        <p:spPr>
          <a:xfrm>
            <a:off x="609480" y="16700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2" descr=""/>
          <p:cNvPicPr/>
          <p:nvPr/>
        </p:nvPicPr>
        <p:blipFill>
          <a:blip r:embed="rId2"/>
          <a:stretch/>
        </p:blipFill>
        <p:spPr>
          <a:xfrm>
            <a:off x="352440" y="1563840"/>
            <a:ext cx="6988320" cy="4740120"/>
          </a:xfrm>
          <a:prstGeom prst="rect">
            <a:avLst/>
          </a:prstGeom>
          <a:ln w="0">
            <a:noFill/>
          </a:ln>
        </p:spPr>
      </p:pic>
      <p:sp>
        <p:nvSpPr>
          <p:cNvPr id="70" name="Cuadro de texto 2"/>
          <p:cNvSpPr/>
          <p:nvPr/>
        </p:nvSpPr>
        <p:spPr>
          <a:xfrm>
            <a:off x="7424640" y="3259080"/>
            <a:ext cx="1692360" cy="3110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548dd4"/>
                </a:solidFill>
                <a:latin typeface="Arial"/>
              </a:rPr>
              <a:t>Competent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1" name="5 Conector recto de flecha"/>
          <p:cNvCxnSpPr/>
          <p:nvPr/>
        </p:nvCxnSpPr>
        <p:spPr>
          <a:xfrm flipH="1">
            <a:off x="6892200" y="3414240"/>
            <a:ext cx="532440" cy="108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2" name="1 CuadroTexto"/>
          <p:cNvSpPr/>
          <p:nvPr/>
        </p:nvSpPr>
        <p:spPr>
          <a:xfrm rot="5400000">
            <a:off x="2235240" y="5951520"/>
            <a:ext cx="144468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558ed5"/>
                </a:solidFill>
                <a:latin typeface="Calibri"/>
              </a:rPr>
              <a:t>evaluació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10 CuadroTexto"/>
          <p:cNvSpPr/>
          <p:nvPr/>
        </p:nvSpPr>
        <p:spPr>
          <a:xfrm rot="5400000">
            <a:off x="2940480" y="5979240"/>
            <a:ext cx="144288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558ed5"/>
                </a:solidFill>
                <a:latin typeface="Calibri"/>
              </a:rPr>
              <a:t>reflexió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11 CuadroTexto"/>
          <p:cNvSpPr/>
          <p:nvPr/>
        </p:nvSpPr>
        <p:spPr>
          <a:xfrm rot="5400000">
            <a:off x="5691240" y="5951520"/>
            <a:ext cx="144468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558ed5"/>
                </a:solidFill>
                <a:latin typeface="Calibri"/>
              </a:rPr>
              <a:t>interacció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5" name="5 Conector recto de flecha"/>
          <p:cNvCxnSpPr>
            <a:stCxn id="72" idx="1"/>
          </p:cNvCxnSpPr>
          <p:nvPr/>
        </p:nvCxnSpPr>
        <p:spPr>
          <a:xfrm flipH="1" flipV="1">
            <a:off x="2952000" y="5074560"/>
            <a:ext cx="3960" cy="33876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5 Conector recto de flecha"/>
          <p:cNvCxnSpPr/>
          <p:nvPr/>
        </p:nvCxnSpPr>
        <p:spPr>
          <a:xfrm flipH="1" flipV="1">
            <a:off x="3656880" y="5127120"/>
            <a:ext cx="3960" cy="33912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7" name="5 Conector recto de flecha"/>
          <p:cNvCxnSpPr/>
          <p:nvPr/>
        </p:nvCxnSpPr>
        <p:spPr>
          <a:xfrm flipH="1" flipV="1">
            <a:off x="6396840" y="5127120"/>
            <a:ext cx="3960" cy="33912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2" descr=""/>
          <p:cNvPicPr/>
          <p:nvPr/>
        </p:nvPicPr>
        <p:blipFill>
          <a:blip r:embed="rId1"/>
          <a:stretch/>
        </p:blipFill>
        <p:spPr>
          <a:xfrm>
            <a:off x="-27000" y="-28440"/>
            <a:ext cx="9144000" cy="6886440"/>
          </a:xfrm>
          <a:prstGeom prst="rect">
            <a:avLst/>
          </a:prstGeom>
          <a:ln w="0">
            <a:noFill/>
          </a:ln>
        </p:spPr>
      </p:pic>
      <p:sp>
        <p:nvSpPr>
          <p:cNvPr id="81" name="1 Título"/>
          <p:cNvSpPr/>
          <p:nvPr/>
        </p:nvSpPr>
        <p:spPr>
          <a:xfrm>
            <a:off x="598320" y="189000"/>
            <a:ext cx="8229600" cy="1563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ff"/>
                </a:solidFill>
                <a:latin typeface="Calibri"/>
              </a:rPr>
              <a:t>Resultados promedios 2010 en Evaluación Docent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2 Marcador de contenido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Calibri"/>
              </a:rPr>
              <a:t>Nuestra comuna muestra resultados bajo el esperado en la mayoría de las dimensiones del portafolio, a excepción de “ambiente de la clase” (del módulo de la clase filmada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Calibri"/>
              </a:rPr>
              <a:t>Los aspectos que requieren mayor atención corresponden a las dimensiones: (a) Calidad de la Evaluación; (b) Reflexión a partir de los resultados de la evaluación y (c) Interacción Pedagógica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-27000" y="-28440"/>
            <a:ext cx="9144000" cy="6886440"/>
          </a:xfrm>
          <a:prstGeom prst="rect">
            <a:avLst/>
          </a:prstGeom>
          <a:ln w="0">
            <a:noFill/>
          </a:ln>
        </p:spPr>
      </p:pic>
      <p:sp>
        <p:nvSpPr>
          <p:cNvPr id="86" name="1 Título"/>
          <p:cNvSpPr/>
          <p:nvPr/>
        </p:nvSpPr>
        <p:spPr>
          <a:xfrm>
            <a:off x="598320" y="189000"/>
            <a:ext cx="8229600" cy="115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ff"/>
                </a:solidFill>
                <a:latin typeface="Calibri"/>
              </a:rPr>
              <a:t>TRES GRANDES IDEA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2 Marcador de contenido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alibri"/>
              </a:rPr>
              <a:t>Diseño de evaluaciones de calid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buClr>
                <a:srgbClr val="ffff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Calibri"/>
              </a:rPr>
              <a:t>Coherente al proceso de enseñanza: Cómo enseñó </a:t>
            </a:r>
            <a:r>
              <a:rPr b="0" lang="es-MX" sz="32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0" lang="es-MX" sz="3200" spc="-1" strike="noStrike">
                <a:solidFill>
                  <a:srgbClr val="ffff00"/>
                </a:solidFill>
                <a:latin typeface="Calibri"/>
              </a:rPr>
              <a:t> Cómo evalúo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buClr>
                <a:srgbClr val="ffff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Calibri"/>
              </a:rPr>
              <a:t>Declarando objetivos, instrucciones y la unidad que se evalú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buClr>
                <a:srgbClr val="ffff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Calibri"/>
              </a:rPr>
              <a:t>Diseñando pautas de correcciones o rúbricas ad hoc al instrument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buClr>
                <a:srgbClr val="ffff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Calibri"/>
              </a:rPr>
              <a:t>Determinando niveles de logros a partir de los resultado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2" descr=""/>
          <p:cNvPicPr/>
          <p:nvPr/>
        </p:nvPicPr>
        <p:blipFill>
          <a:blip r:embed="rId1"/>
          <a:stretch/>
        </p:blipFill>
        <p:spPr>
          <a:xfrm>
            <a:off x="-27000" y="-28440"/>
            <a:ext cx="9144000" cy="6886440"/>
          </a:xfrm>
          <a:prstGeom prst="rect">
            <a:avLst/>
          </a:prstGeom>
          <a:ln w="0">
            <a:noFill/>
          </a:ln>
        </p:spPr>
      </p:pic>
      <p:sp>
        <p:nvSpPr>
          <p:cNvPr id="91" name="1 Título"/>
          <p:cNvSpPr/>
          <p:nvPr/>
        </p:nvSpPr>
        <p:spPr>
          <a:xfrm>
            <a:off x="598320" y="189000"/>
            <a:ext cx="8229600" cy="115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ff"/>
                </a:solidFill>
                <a:latin typeface="Calibri"/>
              </a:rPr>
              <a:t>TRES GRANDES IDEA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2 Marcador de contenido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alibri"/>
              </a:rPr>
              <a:t>Reflexión a partir de los resultados de la evaluació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buClr>
                <a:srgbClr val="ffff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Calibri"/>
              </a:rPr>
              <a:t>Nivel descriptivo: Debe señalar puntaje, % de logro y nivel de logro en el objetiv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buClr>
                <a:srgbClr val="ffff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Calibri"/>
              </a:rPr>
              <a:t>Nivel complejo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buClr>
                <a:srgbClr val="ffff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Calibri"/>
              </a:rPr>
              <a:t>Enunciar fortalezas y debilidad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buClr>
                <a:srgbClr val="ffff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Calibri"/>
              </a:rPr>
              <a:t>Enunciar como se potencian las fortaleza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buClr>
                <a:srgbClr val="ffff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Calibri"/>
              </a:rPr>
              <a:t>Enunciar como se superar las debilidad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buClr>
                <a:srgbClr val="ffff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Calibri"/>
              </a:rPr>
              <a:t>¿Cómo potenció mi práctica pedagógica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2" descr=""/>
          <p:cNvPicPr/>
          <p:nvPr/>
        </p:nvPicPr>
        <p:blipFill>
          <a:blip r:embed="rId1"/>
          <a:stretch/>
        </p:blipFill>
        <p:spPr>
          <a:xfrm>
            <a:off x="-27000" y="-28440"/>
            <a:ext cx="9144000" cy="6886440"/>
          </a:xfrm>
          <a:prstGeom prst="rect">
            <a:avLst/>
          </a:prstGeom>
          <a:ln w="0">
            <a:noFill/>
          </a:ln>
        </p:spPr>
      </p:pic>
      <p:sp>
        <p:nvSpPr>
          <p:cNvPr id="96" name="1 Título"/>
          <p:cNvSpPr/>
          <p:nvPr/>
        </p:nvSpPr>
        <p:spPr>
          <a:xfrm>
            <a:off x="598320" y="189000"/>
            <a:ext cx="8229600" cy="115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ff"/>
                </a:solidFill>
                <a:latin typeface="Calibri"/>
              </a:rPr>
              <a:t>TRES GRANDES IDEA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2 Marcador de contenido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alibri"/>
              </a:rPr>
              <a:t>Interacción pedagógica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buClr>
                <a:srgbClr val="ffff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Calibri"/>
              </a:rPr>
              <a:t>Deben desarrollar habilidades de nivel complejo (argumentación, inferencia, transferencia, etc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buClr>
                <a:srgbClr val="ffff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Calibri"/>
              </a:rPr>
              <a:t>La mejor y mayor participación del grupo en la tare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buClr>
                <a:srgbClr val="ffff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Calibri"/>
              </a:rPr>
              <a:t>Enfocar en cómo el grupo puede apoyar la superación de dificultades y el fortalecimiento de las potencialidad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-27000" y="-28440"/>
            <a:ext cx="9144000" cy="6886440"/>
          </a:xfrm>
          <a:prstGeom prst="rect">
            <a:avLst/>
          </a:prstGeom>
          <a:ln w="0">
            <a:noFill/>
          </a:ln>
        </p:spPr>
      </p:pic>
      <p:sp>
        <p:nvSpPr>
          <p:cNvPr id="101" name="1 Título"/>
          <p:cNvSpPr/>
          <p:nvPr/>
        </p:nvSpPr>
        <p:spPr>
          <a:xfrm>
            <a:off x="598320" y="189000"/>
            <a:ext cx="8229600" cy="1563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ff"/>
                </a:solidFill>
                <a:latin typeface="Calibri"/>
              </a:rPr>
              <a:t>Resultados promedios 2010 en Evaluación Docent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2 Marcador de contenido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Calibri"/>
              </a:rPr>
              <a:t>Destacan los resultados promedios en los siguientes subsectores a nivel comuna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0" lang="es-MX" sz="3200" spc="-1" strike="noStrike">
                <a:solidFill>
                  <a:srgbClr val="ffff00"/>
                </a:solidFill>
                <a:latin typeface="Calibri"/>
              </a:rPr>
              <a:t>Educación Física en Educación Básic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0" lang="es-MX" sz="3200" spc="-1" strike="noStrike">
                <a:solidFill>
                  <a:srgbClr val="ffff00"/>
                </a:solidFill>
                <a:latin typeface="Calibri"/>
              </a:rPr>
              <a:t>Religión Evangélica en Educación Básic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Calibri"/>
              </a:rPr>
              <a:t>Todos los demás subsectores se </a:t>
            </a:r>
            <a:r>
              <a:rPr b="0" lang="es-MX" sz="32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0" lang="es-MX" sz="3200" spc="-1" strike="noStrike">
                <a:solidFill>
                  <a:srgbClr val="ffff00"/>
                </a:solidFill>
                <a:latin typeface="Calibri"/>
              </a:rPr>
              <a:t>encuentran bajo el nivel esperad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30T16:54:51Z</dcterms:created>
  <dc:creator>Sebastip</dc:creator>
  <dc:description/>
  <dc:language>en-US</dc:language>
  <cp:lastModifiedBy>Sebastip</cp:lastModifiedBy>
  <dcterms:modified xsi:type="dcterms:W3CDTF">2011-05-12T03:02:45Z</dcterms:modified>
  <cp:revision>51</cp:revision>
  <dc:subject/>
  <dc:title>Aplicación del Programa LEE</dc:title>
</cp:coreProperties>
</file>